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623-B561-414E-9A68-DE619A6A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17E-0864-4D9B-8AA3-92AA110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EED-4794-4706-9349-A94865F9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8C5-A737-4943-A5F3-7AE448C6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61C-7A1A-4AA2-BBC6-58B3AB74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65B-2749-40FA-87A6-550DABEF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F18-F6F1-43F8-B3EA-9E7EEABA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A7C-CAFE-41CF-B06A-5BDE1C3E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CF8-676C-4299-AC65-27A736D4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7AA-018E-4238-8D9C-41C5458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711-F4E5-41F8-9489-4FBB3D4D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C1A-FD56-4FA8-949A-88F69214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8B41-533D-48FB-8CA9-D52277BBF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-76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_          Clase 802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22 de abril del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7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Siempre haces tus t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7030a0"/>
                </a:solidFill>
                <a:latin typeface="Arial"/>
              </a:rPr>
              <a:t>L.O: to review the preterite tense and unit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y and match the opposi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en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c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ferm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tr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.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í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. abur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sad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. regresar, 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c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.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. 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labras afirmativas y nega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rcRect l="12500" t="5003" r="12500" b="10638"/>
          <a:stretch/>
        </p:blipFill>
        <p:spPr>
          <a:xfrm>
            <a:off x="0" y="201600"/>
            <a:ext cx="9144000" cy="6427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839160" y="4648320"/>
            <a:ext cx="1363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934320" y="4648320"/>
            <a:ext cx="10220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12500" t="5003" r="12500" b="12093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915840" y="4495680"/>
            <a:ext cx="1209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01880" y="4419720"/>
            <a:ext cx="95652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12500" t="5003" r="12500" b="11181"/>
          <a:stretch/>
        </p:blipFill>
        <p:spPr>
          <a:xfrm>
            <a:off x="0" y="0"/>
            <a:ext cx="9144000" cy="6386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983240" y="5410080"/>
            <a:ext cx="96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7840" y="5791320"/>
            <a:ext cx="8132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2503" t="4998" r="13410" b="18820"/>
          <a:stretch/>
        </p:blipFill>
        <p:spPr>
          <a:xfrm>
            <a:off x="0" y="152280"/>
            <a:ext cx="903276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258880" y="4191120"/>
            <a:ext cx="60732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21360" y="4191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 / N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8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MINI-PROYECTO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s vacaciones de prima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80880" y="297180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4:49:35Z</dcterms:created>
  <dc:creator>Helen Zumaeta</dc:creator>
  <dc:description/>
  <dc:language>en-US</dc:language>
  <cp:lastModifiedBy>Helen Zumaeta</cp:lastModifiedBy>
  <dcterms:modified xsi:type="dcterms:W3CDTF">2016-04-22T20:47:20Z</dcterms:modified>
  <cp:revision>16</cp:revision>
  <dc:subject/>
  <dc:title>Me llamo ___________          Clase 8im La fecha es el 18 de diciembre del 2012</dc:title>
</cp:coreProperties>
</file>